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1.xlsx" ContentType="application/vnd.openxmlformats-officedocument.spreadsheetml.sheet"/>
  <Override PartName="/ppt/embeddings/oleObject5.xlsx" ContentType="application/vnd.openxmlformats-officedocument.spreadsheetml.sheet"/>
  <Override PartName="/ppt/embeddings/oleObject12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FEF-9174-450C-A970-8C509BA8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D2B-9BBA-453D-947C-2052473B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4C9-5F8D-42A7-AE7E-CDBF41715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63700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919840"/>
            <a:ext cx="19044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F3B-67F8-4AD4-BA15-6A7AFE58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1D5-B91F-4CDC-B706-C080CF2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E50-0641-4896-B87B-54A994F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ADE-1A60-4078-A259-2E41EC54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B4F-C1F6-4BAB-8063-99DD3A7D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27040"/>
            <a:ext cx="5914800" cy="88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B0C-29C4-4C01-AFBA-58C71322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DD2-42B2-4C7B-8FFC-FB98253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91984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F67-ED9E-46DA-B849-5F880613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637000"/>
            <a:ext cx="288612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919840"/>
            <a:ext cx="5914800" cy="29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EF4-6191-4121-81FB-8A1825C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27040"/>
            <a:ext cx="59148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637000"/>
            <a:ext cx="5914800" cy="62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182160"/>
            <a:ext cx="23148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182160"/>
            <a:ext cx="1542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5600-7462-4FAD-859C-09BB079C3A3F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4.png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png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png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png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png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png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png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png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png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png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pn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Chart 10"/>
          <p:cNvGraphicFramePr/>
          <p:nvPr/>
        </p:nvGraphicFramePr>
        <p:xfrm>
          <a:off x="-131760" y="6700680"/>
          <a:ext cx="7040520" cy="24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1760" y="6700680"/>
                    <a:ext cx="7040520" cy="24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Chart 5"/>
          <p:cNvGraphicFramePr/>
          <p:nvPr/>
        </p:nvGraphicFramePr>
        <p:xfrm>
          <a:off x="3409920" y="1039680"/>
          <a:ext cx="3498840" cy="119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Char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9920" y="1039680"/>
                    <a:ext cx="349884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Chart 7"/>
          <p:cNvGraphicFramePr/>
          <p:nvPr/>
        </p:nvGraphicFramePr>
        <p:xfrm>
          <a:off x="-50760" y="-50760"/>
          <a:ext cx="3576600" cy="1198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" name="Char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50760" y="-50760"/>
                    <a:ext cx="35766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Chart 8"/>
          <p:cNvGraphicFramePr/>
          <p:nvPr/>
        </p:nvGraphicFramePr>
        <p:xfrm>
          <a:off x="-50760" y="1014480"/>
          <a:ext cx="3576600" cy="1198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" name="Char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50760" y="1014480"/>
                    <a:ext cx="35766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Chart 9"/>
          <p:cNvGraphicFramePr/>
          <p:nvPr/>
        </p:nvGraphicFramePr>
        <p:xfrm>
          <a:off x="-50760" y="2133720"/>
          <a:ext cx="3562200" cy="1198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" name="Char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50760" y="2133720"/>
                    <a:ext cx="3562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Chart 11"/>
          <p:cNvGraphicFramePr/>
          <p:nvPr/>
        </p:nvGraphicFramePr>
        <p:xfrm>
          <a:off x="3421080" y="-50760"/>
          <a:ext cx="3487680" cy="1198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2" name="Char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1080" y="-50760"/>
                    <a:ext cx="34876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Chart 13"/>
          <p:cNvGraphicFramePr/>
          <p:nvPr/>
        </p:nvGraphicFramePr>
        <p:xfrm>
          <a:off x="-50760" y="3295800"/>
          <a:ext cx="3470400" cy="1198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54" name="Char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-50760" y="3295800"/>
                    <a:ext cx="34704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Chart 14"/>
          <p:cNvGraphicFramePr/>
          <p:nvPr/>
        </p:nvGraphicFramePr>
        <p:xfrm>
          <a:off x="-55440" y="4422600"/>
          <a:ext cx="3497040" cy="12002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56" name="Char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-55440" y="4422600"/>
                    <a:ext cx="34970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Chart 15"/>
          <p:cNvGraphicFramePr/>
          <p:nvPr/>
        </p:nvGraphicFramePr>
        <p:xfrm>
          <a:off x="-50760" y="5559480"/>
          <a:ext cx="3576600" cy="11984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58" name="Char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-50760" y="5559480"/>
                    <a:ext cx="35766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Chart 16"/>
          <p:cNvGraphicFramePr/>
          <p:nvPr/>
        </p:nvGraphicFramePr>
        <p:xfrm>
          <a:off x="-50760" y="6689880"/>
          <a:ext cx="3576600" cy="160020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0" name="Char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-50760" y="6689880"/>
                    <a:ext cx="3576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Chart 17"/>
          <p:cNvGraphicFramePr/>
          <p:nvPr/>
        </p:nvGraphicFramePr>
        <p:xfrm>
          <a:off x="3413160" y="3274920"/>
          <a:ext cx="3495600" cy="119880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2" name="Char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13160" y="3274920"/>
                    <a:ext cx="349560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Chart 18"/>
          <p:cNvGraphicFramePr/>
          <p:nvPr/>
        </p:nvGraphicFramePr>
        <p:xfrm>
          <a:off x="3409920" y="4405320"/>
          <a:ext cx="3411720" cy="1198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4" name="Char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09920" y="4405320"/>
                    <a:ext cx="34117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Chart 19"/>
          <p:cNvGraphicFramePr/>
          <p:nvPr/>
        </p:nvGraphicFramePr>
        <p:xfrm>
          <a:off x="3414600" y="2158920"/>
          <a:ext cx="3494160" cy="12002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6" name="Char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14600" y="2158920"/>
                    <a:ext cx="34941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Chart 20"/>
          <p:cNvGraphicFramePr/>
          <p:nvPr/>
        </p:nvGraphicFramePr>
        <p:xfrm>
          <a:off x="3419640" y="5610240"/>
          <a:ext cx="3489120" cy="1198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8" name="Char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19640" y="5610240"/>
                    <a:ext cx="34891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2"/>
          <p:cNvSpPr/>
          <p:nvPr/>
        </p:nvSpPr>
        <p:spPr>
          <a:xfrm>
            <a:off x="149400" y="9099720"/>
            <a:ext cx="67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S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series of annual mean surface temperature anomalies(ºC) in the period of 1850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2:46:43Z</dcterms:created>
  <dc:creator>endy zhao</dc:creator>
  <dc:description/>
  <dc:language>en-US</dc:language>
  <cp:lastModifiedBy>jxu</cp:lastModifiedBy>
  <cp:lastPrinted>2013-06-14T14:49:10Z</cp:lastPrinted>
  <dcterms:modified xsi:type="dcterms:W3CDTF">2013-11-12T13:44:07Z</dcterms:modified>
  <cp:revision>160</cp:revision>
  <dc:subject/>
  <dc:title>PowerPoint 演示文稿</dc:title>
</cp:coreProperties>
</file>